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474-ED8A-4445-ABCC-51815644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B83-E0DD-4B5D-98C4-433D915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219-CABF-4335-82E4-60493D61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4BC-BA3D-4AB5-B3E1-9D01341F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313-359E-45FF-A4D9-007805C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E47-2F86-4478-9732-D6F80F84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148-8A65-4BBC-B407-F4EAC4AD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BCC-BB3D-49CA-A932-5B57A081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653-6E68-4188-808F-4613DF44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217-0DFC-45FD-82E8-455CBFD9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155-9FF9-4463-8D68-C5BF445B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05B-A4D4-44C8-8C8A-E195C3F1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13E9-701A-4DAF-BC42-F2EDCB11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600200"/>
            <a:ext cx="7772400" cy="480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059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Тих ветрец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6088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1447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62320" y="1066680"/>
            <a:ext cx="5715000" cy="448092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65a53b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/ Към мене идва                     тих ветрец от Теб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за да погали              моето сърце. 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33520"/>
            <a:ext cx="7848720" cy="448092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0066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/ Любовта, която Ти даряваш, Боже мо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изпълваш моето сърце                       с люб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Обичам Те, Боже мой. 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19520" y="3533760"/>
            <a:ext cx="6095880" cy="448092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fffff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/ Към мене идва                   Твоята любов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О, Святи Душе,                изпълваш ме със мир. 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9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09960" y="287280"/>
            <a:ext cx="20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Bookman Old Style"/>
              </a:rPr>
              <a:t>Припев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077320" cy="594324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fffff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66"/>
                </a:solidFill>
                <a:latin typeface="Monotype Corsiva"/>
              </a:rPr>
              <a:t>/ Любовта, която Ти даряваш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66"/>
                </a:solidFill>
                <a:latin typeface="Monotype Corsiva"/>
              </a:rPr>
              <a:t>Боже мой</a:t>
            </a:r>
            <a:r>
              <a:rPr b="1" lang="en-US" sz="4800" spc="-1" strike="noStrike">
                <a:solidFill>
                  <a:srgbClr val="ffff66"/>
                </a:solidFill>
                <a:latin typeface="Monotype Corsiva"/>
              </a:rPr>
              <a:t>,</a:t>
            </a:r>
            <a:r>
              <a:rPr b="1" lang="bg-BG" sz="48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66"/>
                </a:solidFill>
                <a:latin typeface="Monotype Corsiva"/>
              </a:rPr>
              <a:t>изпълваш моето сърце                                    с люб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66"/>
                </a:solidFill>
                <a:latin typeface="Monotype Corsiva"/>
              </a:rPr>
              <a:t>Обичам Те, Боже мой.  /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8000"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6:36:07Z</dcterms:created>
  <dc:creator>TrifonTrifonow</dc:creator>
  <dc:description/>
  <dc:language>en-US</dc:language>
  <cp:lastModifiedBy>TrifonTrifonow</cp:lastModifiedBy>
  <dcterms:modified xsi:type="dcterms:W3CDTF">2005-12-28T06:36:28Z</dcterms:modified>
  <cp:revision>1</cp:revision>
  <dc:subject/>
  <dc:title>Slide 1</dc:title>
</cp:coreProperties>
</file>